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0B5-0AE6-4834-8909-D238522F7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A98-CB3C-4553-9B73-CA2703E8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ax deductions from pay stu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salary was $20,000, but taxable income (box 1) is much less because of pre-tax deduc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r each job in year. Must be mailed to employees by January 31. Used to file tax return that must be filed by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F8A-E0F3-431F-BCD1-EE04B189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90B-804E-4B81-A663-8E61F5D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77C-6EB2-4DA4-A500-8BE31575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2B7-B32D-4CF1-A3AD-DBAAEBD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AD1-BFC3-46D3-B229-0FEE775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222-BDC8-4DB6-B0C7-95C22ABD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494-CECA-4264-8960-7482D7C2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7F5-42D1-4093-B9CD-9835DEBC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5C7-2311-4205-9D8D-C2D2C51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85B-5678-4281-9E27-0D51ED6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649-B7F4-4AD5-9180-1AEFBBE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58A-46C5-4209-BA60-D9B9006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D48-6041-4998-9D1F-FBBB80A8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W-2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your tax information for one job in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receive one for each job you worked at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1295280" y="2362320"/>
            <a:ext cx="6496200" cy="4136760"/>
            <a:chOff x="1295280" y="2362320"/>
            <a:chExt cx="6496200" cy="4136760"/>
          </a:xfrm>
        </p:grpSpPr>
        <p:pic>
          <p:nvPicPr>
            <p:cNvPr id="52" name="Picture 6" descr=""/>
            <p:cNvPicPr/>
            <p:nvPr/>
          </p:nvPicPr>
          <p:blipFill>
            <a:blip r:embed="rId1"/>
            <a:stretch/>
          </p:blipFill>
          <p:spPr>
            <a:xfrm>
              <a:off x="1295280" y="2362320"/>
              <a:ext cx="6496200" cy="41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7"/>
            <p:cNvSpPr/>
            <p:nvPr/>
          </p:nvSpPr>
          <p:spPr>
            <a:xfrm>
              <a:off x="1600200" y="3200040"/>
              <a:ext cx="274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l World Bus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cago, IL 606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1600200" y="4343040"/>
              <a:ext cx="27432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ma Mo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01 South Jack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cago, IL 606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1600200" y="383976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0-00-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5029200" y="27428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,680.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5029200" y="30477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,680.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6477120" y="30477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34.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6477120" y="27428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728.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6477120" y="33066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1.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5029200" y="33066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,680.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1523880" y="536400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1905120" y="5364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-22222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352680" y="5364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,680.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4343400" y="5364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0.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1600200" y="27730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-22222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1"/>
            <p:cNvSpPr/>
            <p:nvPr/>
          </p:nvSpPr>
          <p:spPr>
            <a:xfrm>
              <a:off x="6324480" y="41144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6705720" y="411444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.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23"/>
          <p:cNvSpPr/>
          <p:nvPr/>
        </p:nvSpPr>
        <p:spPr>
          <a:xfrm>
            <a:off x="4952880" y="5867280"/>
            <a:ext cx="38124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9:00:15Z</dcterms:created>
  <dc:creator>ldieker</dc:creator>
  <dc:description/>
  <dc:language>en-US</dc:language>
  <cp:lastModifiedBy>Computer Services</cp:lastModifiedBy>
  <dcterms:modified xsi:type="dcterms:W3CDTF">2010-04-19T11:36:06Z</dcterms:modified>
  <cp:revision>4</cp:revision>
  <dc:subject/>
  <dc:title>Sample W-2 Form</dc:title>
</cp:coreProperties>
</file>